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D5A5-AABC-45B5-A8B9-B22B6DF5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FE54-CC54-4473-B94F-A716342C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CA2-3C25-4A5C-9C32-56476770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A1ED-9D64-4C43-A69A-E18FA584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80B0-BB16-4CD0-8F36-00DEF675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039-BFE6-46F0-80D2-F42A2312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21DA-80F9-4FAB-92EF-F9310CD5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4B01-0463-42F2-8326-12E74A02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8A4-8A94-4571-AA4D-E0A2348D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BA3-7D6D-42C0-A4E4-FB7A7D0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99A-7A90-4868-836A-3B363D8E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714-1242-45E8-902C-E063B9D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EC2-AA55-45BF-BAF1-EB08107EAF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Deutsch Kapital 4</a:t>
            </a:r>
            <a:br>
              <a:rPr sz="4400"/>
            </a:b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Matias Rei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Meine Gesund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joggen jeden morgen aber ich finde es langweil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esse viel obst und gemuse denn, sie schmects g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t keine alkahol getrunk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21337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419720"/>
            <a:ext cx="1981440" cy="2133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496880" cy="180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724280"/>
            <a:ext cx="144792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152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Wolfgangs Ges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finde es nicht gut das du rauch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dfd293"/>
                </a:solidFill>
                <a:latin typeface="Arial"/>
                <a:ea typeface="Arial"/>
              </a:rPr>
              <a:t>ünters Gesund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 verbiden die sonne nic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2471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ch darf viel rad Fahren.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41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 habe kiene </a:t>
            </a:r>
            <a:r>
              <a:rPr b="0" lang="de-DE" sz="4000" spc="-1" strike="noStrike">
                <a:solidFill>
                  <a:srgbClr val="dfd293"/>
                </a:solidFill>
                <a:latin typeface="Arial"/>
              </a:rPr>
              <a:t>Schokolade </a:t>
            </a: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essen, weil sie fett mache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4732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0:06Z</dcterms:created>
  <dc:creator>CUSD220</dc:creator>
  <dc:description/>
  <dc:language>en-US</dc:language>
  <cp:lastModifiedBy>CUSD220</cp:lastModifiedBy>
  <dcterms:modified xsi:type="dcterms:W3CDTF">2012-02-24T18:25:52Z</dcterms:modified>
  <cp:revision>4</cp:revision>
  <dc:subject/>
  <dc:title>Deutsch Kapital 4 Gesund Leben</dc:title>
</cp:coreProperties>
</file>